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7E0-6004-4028-9E71-F17BB358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A2E-EBD6-48D8-AE07-66FC9CF1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5C8-FA86-4FB3-9424-C87F93C2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1CF2-162D-42BA-B80E-5383D6F9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B0EC-E745-4295-8AFB-79481E9C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D749-918E-491D-AB2A-4E2D3AD4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5081-4FA2-4698-8A65-7D34741A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0E41-886E-47D3-BC17-09477812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E441-58DA-499B-9A98-97C0EABE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49CD-62CC-46D0-BDBC-7E85CF15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0916-0E8F-4181-B510-7E4376FF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F91-CC07-4E67-84D8-88B123C9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A524-BEBD-4677-A2C5-0DBCA19E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75F0-46A0-4CE7-AE57-7BCF5A77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9D4F-D953-4C8F-84D5-1A7B94D9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8421-E2CD-443B-8927-6B53317A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2336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480" y="129492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2336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480" y="4041360"/>
            <a:ext cx="23799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1FCD-F629-4969-843E-01DB3D11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97B-9947-42A1-9467-BC08AD31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AE82-0E96-4B3F-B661-81AE2FA2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6D7-EBAD-410E-9AA4-EBFA6490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75960"/>
            <a:ext cx="73821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A0B6-E9AA-41C6-AF9A-2A12BA2A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9DFC-ED3E-40D5-9019-E2F81E04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1440" y="404136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516-5335-4A5E-80BC-81C5A15C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1440" y="1294920"/>
            <a:ext cx="360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41360"/>
            <a:ext cx="7391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63D-FD22-495B-8AAA-8563C0E6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29492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76FB-5014-448E-8563-E7A00B94D8C1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2133720"/>
            <a:ext cx="792468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080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FDD3-673A-48FC-AAE5-51BD258AAE5D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kispace.org/" TargetMode="External"/><Relationship Id="rId3" Type="http://schemas.openxmlformats.org/officeDocument/2006/relationships/hyperlink" Target="http://flickr.com/" TargetMode="External"/><Relationship Id="rId4" Type="http://schemas.openxmlformats.org/officeDocument/2006/relationships/hyperlink" Target="http://digitaldialogues.blogs.com/learning_technologies/" TargetMode="External"/><Relationship Id="rId5" Type="http://schemas.openxmlformats.org/officeDocument/2006/relationships/hyperlink" Target="http://www.bloglines.com/" TargetMode="External"/><Relationship Id="rId6" Type="http://schemas.openxmlformats.org/officeDocument/2006/relationships/hyperlink" Target="http://del.icio.us/" TargetMode="External"/><Relationship Id="rId7" Type="http://schemas.openxmlformats.org/officeDocument/2006/relationships/hyperlink" Target="http://digitaldialogues.org/eportfolios" TargetMode="External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2133720"/>
            <a:ext cx="792468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0808"/>
                </a:solidFill>
                <a:latin typeface="Tahoma"/>
              </a:rPr>
              <a:t>The Age of Connection </a:t>
            </a:r>
            <a:br>
              <a:rPr sz="4000"/>
            </a:br>
            <a:r>
              <a:rPr b="1" lang="en-US" sz="4000" spc="-1" strike="noStrike">
                <a:solidFill>
                  <a:srgbClr val="080808"/>
                </a:solidFill>
                <a:latin typeface="Tahoma"/>
              </a:rPr>
              <a:t>and </a:t>
            </a:r>
            <a:br>
              <a:rPr sz="4000"/>
            </a:br>
            <a:r>
              <a:rPr b="1" lang="en-US" sz="4000" spc="-1" strike="noStrike">
                <a:solidFill>
                  <a:srgbClr val="080808"/>
                </a:solidFill>
                <a:latin typeface="Tahoma"/>
              </a:rPr>
              <a:t>the Connected Learner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752560" y="4365360"/>
            <a:ext cx="6283440" cy="15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presented by: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Anne Bartlett-Bragg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59640" y="6093000"/>
            <a:ext cx="24843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1592280" cy="2736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381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cial Software: 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mplications for Instituti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32240" y="1294920"/>
            <a:ext cx="64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Radically re-conceptualise the learning culture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Changes the essence of what it means to communicate and learn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Customisable Learning Landscape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Eg. ELGG – hybrid web-logging, e-Portfolios, and social networking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1592280" cy="2736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381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cial Software: 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mplications for Educator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68000" y="1294920"/>
            <a:ext cx="669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Opportunity to enrich the learning experience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Landscape Architects or Designer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Trusted source: 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guiding, 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advising on technology options, 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facilitating network contacts, 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Empowering learners to identify &amp; customise their personal landscape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381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cial Software: 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Challenges &amp; Issue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68000" y="1294920"/>
            <a:ext cx="669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Connectivity / acces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Critical literacy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Digital literacy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Institutional IT policie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Our (as educators) perceptions of teaching &amp; learning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381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e future: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68000" y="1294920"/>
            <a:ext cx="669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808"/>
                </a:solidFill>
                <a:latin typeface="Tahoma"/>
              </a:rPr>
              <a:t>If you don’t know where you are going, 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808"/>
                </a:solidFill>
                <a:latin typeface="Tahoma"/>
              </a:rPr>
              <a:t>then it doesn’t matter which road you take,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808"/>
                </a:solidFill>
                <a:latin typeface="Tahoma"/>
              </a:rPr>
              <a:t>does it?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Cheshire Cat 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Alice in Wonderland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123920"/>
            <a:ext cx="16095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65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earning in the Information Age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76360" y="1294920"/>
            <a:ext cx="763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Learning dominated by: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Acces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Information – masses of it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Google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Delivery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Distribution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Focused on learning as an end product or acquisition model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ome great examples – remember Froguts??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Brilliant use for hard to teach or hard to test abstract concept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Practice skill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Interact or examine concepts, models or theorie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164360" y="981000"/>
            <a:ext cx="1657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Renovating 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learning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with technolog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03640" y="1294920"/>
            <a:ext cx="5905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Adding technology to existing subjects / course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Converting materials to digital format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Adding computers to classroom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32640" y="5373720"/>
            <a:ext cx="1611360" cy="1198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79280" y="1165320"/>
            <a:ext cx="317340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65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Enhancing </a:t>
            </a:r>
            <a:r>
              <a:rPr b="0" lang="en-US" sz="3600" spc="-1" strike="noStrike">
                <a:solidFill>
                  <a:srgbClr val="080808"/>
                </a:solidFill>
                <a:latin typeface="Tahoma"/>
              </a:rPr>
              <a:t>learning</a:t>
            </a: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 processes with technology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6360" y="1294920"/>
            <a:ext cx="7632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Learner Management Systems (LMS)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Enrolments, timetabling, student record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Student / lecturer communication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Asynchronous discussion board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Lectures notes, PowerPoint slide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Do these processes really enhance the learning experience?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04000" y="4187880"/>
            <a:ext cx="21114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earning in the Age of Connection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24000" y="1294920"/>
            <a:ext cx="662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Learning dominated by: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Always on – continuous computing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Laptops, handhelds, mobile phone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Invisible, portable information field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Wireless network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Constant connectivity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Increased levels of collaboration – beyond the classroom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1490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381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cial Software 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32240" y="1294920"/>
            <a:ext cx="64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oftware that supports group interaction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oftware that lets people rendezvous, connect or collaborate…results in the creation of shared interactive spaces.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Includes 1 or more of the following: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Support for conversational interaction between individuals or groups (eg. IM or asynchronous discussion forums)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Support for the development of personalised social networks –new connections –knowledge sharing - RS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6160" y="189000"/>
            <a:ext cx="248112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cial Software Applications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676600" y="1294920"/>
            <a:ext cx="5927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IM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Chat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Weblog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Wiki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RSS &amp; aggregation – eg. Blogline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ocial bookmarking - eg. Del.ici.iou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ocial sharing services – eg. Flickr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1028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75960"/>
            <a:ext cx="7382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Let’s go exploring…..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76600" y="1294920"/>
            <a:ext cx="5927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Wiki – </a:t>
            </a:r>
            <a:r>
              <a:rPr b="0" lang="en-US" sz="1800" spc="-1" strike="noStrike" u="sng">
                <a:solidFill>
                  <a:srgbClr val="377b89"/>
                </a:solidFill>
                <a:uFillTx/>
                <a:latin typeface="Tahoma"/>
                <a:hlinkClick r:id="rId2"/>
              </a:rPr>
              <a:t>wikispaces.org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ocial sharing services – eg. </a:t>
            </a:r>
            <a:r>
              <a:rPr b="0" lang="en-US" sz="1800" spc="-1" strike="noStrike" u="sng">
                <a:solidFill>
                  <a:srgbClr val="377b89"/>
                </a:solidFill>
                <a:uFillTx/>
                <a:latin typeface="Tahoma"/>
                <a:hlinkClick r:id="rId3"/>
              </a:rPr>
              <a:t>Flickr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77b89"/>
                </a:solidFill>
                <a:uFillTx/>
                <a:latin typeface="Tahoma"/>
                <a:hlinkClick r:id="rId4"/>
              </a:rPr>
              <a:t>LTUG weblog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kype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RSS &amp; aggregation – eg. </a:t>
            </a:r>
            <a:r>
              <a:rPr b="0" lang="en-US" sz="1800" spc="-1" strike="noStrike" u="sng">
                <a:solidFill>
                  <a:srgbClr val="377b89"/>
                </a:solidFill>
                <a:uFillTx/>
                <a:latin typeface="Tahoma"/>
                <a:hlinkClick r:id="rId5"/>
              </a:rPr>
              <a:t>Blogline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Social bookmarking - eg. </a:t>
            </a:r>
            <a:r>
              <a:rPr b="0" lang="en-US" sz="1800" spc="-1" strike="noStrike" u="sng">
                <a:solidFill>
                  <a:srgbClr val="377b89"/>
                </a:solidFill>
                <a:uFillTx/>
                <a:latin typeface="Tahoma"/>
                <a:hlinkClick r:id="rId6"/>
              </a:rPr>
              <a:t>Del.icio.u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77b89"/>
                </a:solidFill>
                <a:uFillTx/>
                <a:latin typeface="Tahoma"/>
                <a:hlinkClick r:id="rId7"/>
              </a:rPr>
              <a:t>ELGG – Digital Dialogues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250920" y="1268280"/>
            <a:ext cx="1028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1592280" cy="2736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6560" y="-360"/>
            <a:ext cx="7381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ocial Software: </a:t>
            </a:r>
            <a:br>
              <a:rPr sz="3200"/>
            </a:b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Implications for Learning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32240" y="1294920"/>
            <a:ext cx="6432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New learning theories: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ahoma"/>
              </a:rPr>
              <a:t>Connectivism:</a:t>
            </a: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Learning is a process of connecting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Maintaining connection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Ability to see connections between ideas &amp; concepts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c605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Managing information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ahoma"/>
              </a:rPr>
              <a:t>George Siemens (2005)</a:t>
            </a:r>
            <a:endParaRPr b="0" lang="en-US" sz="16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06:58:38Z</dcterms:created>
  <dc:creator>Anne Bartlett-Bragg</dc:creator>
  <dc:description/>
  <dc:language>en-US</dc:language>
  <cp:lastModifiedBy>Anne Maree Jones</cp:lastModifiedBy>
  <dcterms:modified xsi:type="dcterms:W3CDTF">2008-05-30T09:43:45Z</dcterms:modified>
  <cp:revision>16</cp:revision>
  <dc:subject/>
  <dc:title>Can Technology Enhance Learning?</dc:title>
</cp:coreProperties>
</file>